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FA3-3B0D-4223-B25D-D40502CA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4BA-F10A-4DF8-9CF8-78641C4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2F5-A39D-476D-A9D6-79CABDDB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554-5893-47E0-A63F-C95F597A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8E1-3483-47A7-BB2F-B7B106ED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168-667F-4D31-BA6F-9B89CCC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50D-1A01-44E4-AEBF-77A5010B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4DA-2FCB-40A6-973F-E1810021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D81-2A03-49A2-AEA9-2735B58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0D8-E12C-4F64-B49C-3D40A9D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6C1-D95C-4130-8376-5A86A7F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5CA-36D3-4B45-95FA-1D0FB10D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954-90F0-4C89-831D-A2BFA101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0000"/>
            </a:gs>
            <a:gs pos="100000">
              <a:srgbClr val="f9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stellar"/>
                <a:ea typeface="Arial"/>
              </a:rPr>
              <a:t>L</a:t>
            </a:r>
            <a:r>
              <a:rPr b="0" lang="en-US" sz="6000" spc="-1" strike="noStrike">
                <a:solidFill>
                  <a:srgbClr val="ff9933"/>
                </a:solidFill>
                <a:latin typeface="Castellar"/>
                <a:ea typeface="Arial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Castellar"/>
                <a:ea typeface="Arial"/>
              </a:rPr>
              <a:t>C</a:t>
            </a:r>
            <a:r>
              <a:rPr b="0" lang="en-US" sz="6000" spc="-1" strike="noStrike">
                <a:solidFill>
                  <a:srgbClr val="66ff66"/>
                </a:solidFill>
                <a:latin typeface="Castellar"/>
                <a:ea typeface="Arial"/>
              </a:rPr>
              <a:t>a</a:t>
            </a:r>
            <a:r>
              <a:rPr b="0" lang="en-US" sz="6000" spc="-1" strike="noStrike">
                <a:solidFill>
                  <a:srgbClr val="3333ff"/>
                </a:solidFill>
                <a:latin typeface="Castellar"/>
                <a:ea typeface="Arial"/>
              </a:rPr>
              <a:t>s</a:t>
            </a:r>
            <a:r>
              <a:rPr b="0" lang="en-US" sz="6000" spc="-1" strike="noStrike">
                <a:solidFill>
                  <a:srgbClr val="800080"/>
                </a:solidFill>
                <a:latin typeface="Castellar"/>
                <a:ea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P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r 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K</a:t>
            </a:r>
            <a:r>
              <a:rPr b="0" lang="en-US" sz="3200" spc="-1" strike="noStrike">
                <a:solidFill>
                  <a:srgbClr val="3333ff"/>
                </a:solidFill>
                <a:latin typeface="Rage Italic"/>
              </a:rPr>
              <a:t>a</a:t>
            </a:r>
            <a:r>
              <a:rPr b="0" lang="en-US" sz="3200" spc="-1" strike="noStrike">
                <a:solidFill>
                  <a:srgbClr val="800080"/>
                </a:solidFill>
                <a:latin typeface="Rage Italic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y 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P</a:t>
            </a:r>
            <a:r>
              <a:rPr b="0" lang="en-US" sz="3200" spc="-1" strike="noStrike">
                <a:solidFill>
                  <a:srgbClr val="3333ff"/>
                </a:solidFill>
                <a:latin typeface="Rage Italic"/>
              </a:rPr>
              <a:t>e</a:t>
            </a:r>
            <a:r>
              <a:rPr b="0" lang="en-US" sz="3200" spc="-1" strike="noStrike">
                <a:solidFill>
                  <a:srgbClr val="800080"/>
                </a:solidFill>
                <a:latin typeface="Rage Italic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7d11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48640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ge Italic"/>
              </a:rPr>
              <a:t>Es una Jardin bo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48000">
            <a:off x="499680" y="5774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Es asomb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037"/>
            </a:gs>
            <a:gs pos="100000">
              <a:srgbClr val="efb1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Es una Casa fabul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074200">
            <a:off x="330480" y="75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CR A Extended"/>
              </a:rPr>
              <a:t>Es Estup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47"/>
            </a:gs>
            <a:gs pos="100000">
              <a:srgbClr val="ecf7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496040" cy="299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410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Es una Cocina magn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70600">
            <a:off x="6831720" y="983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Incre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73760" y="1233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5334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Es una Patio Soñ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635600">
            <a:off x="381240" y="609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s luj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5715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Es una Cuarto moderna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467800">
            <a:off x="7009560" y="9140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cóm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541008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Es una Garaje agra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2904800">
            <a:off x="7009560" y="1141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b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b6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688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s una grande B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741800">
            <a:off x="457920" y="380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 Titling MT"/>
              </a:rPr>
              <a:t>Es Muy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4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s una Sala relaj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729800">
            <a:off x="305280" y="7617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s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Es una fantas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182800">
            <a:off x="7009200" y="6091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prec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1:51Z</dcterms:created>
  <dc:creator>peckhamkar</dc:creator>
  <dc:description/>
  <dc:language>en-US</dc:language>
  <cp:lastModifiedBy>peckhamkar</cp:lastModifiedBy>
  <dcterms:modified xsi:type="dcterms:W3CDTF">2013-04-04T15:57:20Z</dcterms:modified>
  <cp:revision>10</cp:revision>
  <dc:subject/>
  <dc:title>La Casa</dc:title>
</cp:coreProperties>
</file>